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4539-6D3F-4D5C-AC3D-CA49D0A83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 is temple of Diana of the Ephesians. An artists rend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3DDA-88C1-4041-8175-037E7002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5EF5-00B7-4F05-A1EC-83C389DD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625B-52C5-4288-84DC-839DF1D0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60D4-D5A4-4ECA-898B-7F0A9520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20CF-5084-410B-8857-EF521E33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349-361D-4AF4-8E55-1D6370E0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722-BC7A-477C-BE04-263BD147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3E5-239B-49D9-BB78-04F3E501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A7E3-9125-47D4-8668-54BBB6B9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1FCB-2C7D-493C-B2F7-614EC4A5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0D4-0F4F-4E32-930D-C43F5F9E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293-CAC6-4D23-871E-1AF7ED28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8D60-7508-4019-A6CC-2D097D9AF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o Tell The Good News – Part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arter 12, Lesson 16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mmary of Ephesia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gs. 213-222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phesians 6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bedient Children of God Make Better Children and Parents – 1-4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bedient Children of God Make Better Servants and Masters – 5-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hortations to Take God’s Provisions and Fight The Darkness of This World With Confidence In God And His Equipment – 10-24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cept of Ephesia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d’s Rich Blessings Bring Great Responsibiliti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god of this world and all the vain charms of the world are nothing compared to the power of God and His Kingdom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aul’s Life After The Book of Act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ile in his first Roman Imprisonmen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 wrote these letters: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phesian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ilippian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lossian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ilem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ten in fall of 62 or Spring of 63AD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ro is emperor from 54-68AD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1498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87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905280" y="2847960"/>
            <a:ext cx="5238720" cy="4010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62520" y="510552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2438280"/>
            <a:ext cx="1752840" cy="838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5638680"/>
            <a:ext cx="2590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ychicus carri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ul's letter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phesia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ort Outline: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d has given us every spiritual blessing in Christ – (1:1 – 3:21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refore live accordingly – (4:1 – 6:24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phesians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Creation of the Body (Church) – 1:1-14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was planned by the Father – 1-6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was purchased by the Son – 7-12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is sealed (approved) by the Holy Spirit – 13-14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Consecration of This Body – 1:15-23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 is the HEAD over all thing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phesians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What we once were (2:1-3,11-12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Dead in si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Influenced by Sata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Controlled by lus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What God did (2:4-7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Loved u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Liberated u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Lifted us up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How God did it (2:8-9,13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What we are now (2:10,14-22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Products of His grac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Partners in His body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Pieces of His Spiritual Templ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phesians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The Mystery of God’s Plan Has Now Been Revealed – 3:1-13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Read it so you can understand i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Understand it so you can enjoy i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Paul’s Prayer For The Ephesian Brethren – 3:14-21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Strengthen the inner ma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Know the love of Christ more fully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Grasp more of the dimensions of God’s lov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phesians 4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ven Tremendous Points of Unity -1-6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pplies for maturity and stability – 7-16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lievers must avoid immoral lifestyles -17-1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lievers are to adopt a spiritual lifestyle – 20-32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phesians 5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bedient Children Are Reflections of God’s Light  and Holiness– 1-21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bedient Children Make Better Husbands and Wives – 22-33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03:03:49Z</dcterms:created>
  <dc:creator>Terry W. Benton</dc:creator>
  <dc:description/>
  <dc:language>en-US</dc:language>
  <cp:lastModifiedBy>Terry W. Benton</cp:lastModifiedBy>
  <dcterms:modified xsi:type="dcterms:W3CDTF">2007-02-25T04:24:27Z</dcterms:modified>
  <cp:revision>5</cp:revision>
  <dc:subject/>
  <dc:title>Go Tell The Good News – Part 2</dc:title>
</cp:coreProperties>
</file>